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407-8E82-4200-AB16-1A701088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39E-9ACA-4D82-B64E-ADF5456C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7FE-DADB-4116-9E52-23AD4A7B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FED9-4FA2-41B5-B14E-401C02D9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024D-743B-4045-A958-C1672CAE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B471-296E-4A14-95C4-6A79195B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8EA9-17FD-4D56-9342-55F3D66B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8B28-B58D-4D24-A27C-CDC22F4A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6A5B-98E4-4B0F-A1DC-2979532C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5531-AF01-471D-B130-87841EB5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BD5A-7F5A-4FFD-8B5B-E407CBF2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2CF-CAEC-464C-9BED-B5AB94AE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918E-44CB-4FF5-86A0-8794A45A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0758-7FE9-43D4-B0D4-5DE8A45D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AC8A-4DCC-42A5-B541-1B614DAA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473C-64FA-4B10-8800-A1707B93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3434-8431-429D-A466-2137DBB4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87E-B8B3-41A3-9322-4D04BFDF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21D5-4619-488A-9051-A1855FD7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DD15-1DD1-476C-97FB-8C6E46DF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3CE-9008-4BF7-A813-248C82C4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5D7B-F211-4C78-BC84-3E6FA0C8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412-6351-45A5-AFA4-8EB4141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BC7-EF01-4B5F-B3DE-95EE9C27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006D-14EE-45B9-A0ED-29529C12A4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A6A6-0D91-4B96-89D0-D71DFFCAB6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xt-Generation Web Desig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178840" cy="33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an Grah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of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utoronto.ca/ian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rovewa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groveware.com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e-Like Con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1905120"/>
            <a:ext cx="609480" cy="76176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429000"/>
            <a:ext cx="60984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429000"/>
            <a:ext cx="609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3429000"/>
            <a:ext cx="609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510552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3429000"/>
            <a:ext cx="60984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182240" y="2771640"/>
            <a:ext cx="3048120" cy="45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08800" y="4284720"/>
            <a:ext cx="529920" cy="82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14640" y="2755800"/>
            <a:ext cx="1481040" cy="47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2759040"/>
            <a:ext cx="0" cy="66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99080" y="2774880"/>
            <a:ext cx="1573200" cy="65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94200" y="4322880"/>
            <a:ext cx="52992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11880" y="4308480"/>
            <a:ext cx="181080" cy="68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26080" y="4243320"/>
            <a:ext cx="960480" cy="78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08040" y="4292640"/>
            <a:ext cx="130968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4327560"/>
            <a:ext cx="936720" cy="68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685600" y="4344840"/>
            <a:ext cx="198360" cy="75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46240" y="4346640"/>
            <a:ext cx="446040" cy="65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36" idx="1"/>
            <a:endCxn id="126" idx="1"/>
          </p:cNvCxnSpPr>
          <p:nvPr/>
        </p:nvCxnSpPr>
        <p:spPr>
          <a:xfrm flipH="1" rot="10800000">
            <a:off x="837720" y="2285280"/>
            <a:ext cx="3353760" cy="1524600"/>
          </a:xfrm>
          <a:prstGeom prst="curvedConnector5">
            <a:avLst>
              <a:gd name="adj1" fmla="val -6816"/>
              <a:gd name="adj2" fmla="val 50000"/>
              <a:gd name="adj3" fmla="val -6816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50" name=""/>
          <p:cNvCxnSpPr>
            <a:stCxn id="129" idx="3"/>
            <a:endCxn id="126" idx="3"/>
          </p:cNvCxnSpPr>
          <p:nvPr/>
        </p:nvCxnSpPr>
        <p:spPr>
          <a:xfrm flipH="1" flipV="1">
            <a:off x="4800240" y="2285280"/>
            <a:ext cx="1753200" cy="1524600"/>
          </a:xfrm>
          <a:prstGeom prst="curvedConnector5">
            <a:avLst>
              <a:gd name="adj1" fmla="val -13021"/>
              <a:gd name="adj2" fmla="val 50000"/>
              <a:gd name="adj3" fmla="val -13021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51" name=""/>
          <p:cNvCxnSpPr>
            <a:stCxn id="135" idx="3"/>
            <a:endCxn id="126" idx="3"/>
          </p:cNvCxnSpPr>
          <p:nvPr/>
        </p:nvCxnSpPr>
        <p:spPr>
          <a:xfrm flipH="1" flipV="1">
            <a:off x="4799880" y="2285640"/>
            <a:ext cx="2972520" cy="3201120"/>
          </a:xfrm>
          <a:prstGeom prst="curvedConnector5">
            <a:avLst>
              <a:gd name="adj1" fmla="val -7691"/>
              <a:gd name="adj2" fmla="val 49994"/>
              <a:gd name="adj3" fmla="val -7691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52" name=""/>
          <p:cNvCxnSpPr>
            <a:stCxn id="135" idx="3"/>
            <a:endCxn id="129" idx="3"/>
          </p:cNvCxnSpPr>
          <p:nvPr/>
        </p:nvCxnSpPr>
        <p:spPr>
          <a:xfrm flipH="1" flipV="1">
            <a:off x="6552360" y="3809160"/>
            <a:ext cx="1220040" cy="1677240"/>
          </a:xfrm>
          <a:prstGeom prst="curvedConnector5">
            <a:avLst>
              <a:gd name="adj1" fmla="val -15879"/>
              <a:gd name="adj2" fmla="val 50000"/>
              <a:gd name="adj3" fmla="val -15879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e-Like Con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ome examp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(examp2, examp2a, examp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extr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navigational too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th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ust distinguish location, place within the colle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areful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sign hierarchy according to desired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e-like:  Design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all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inguishing desig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different places in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vi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s generated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ynamic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from a document datab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tent, based on user pre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utomatically updat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 new content is add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inciple, allows for content structured using complex database quer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Structure: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ophisticated backend datab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structurally marked-up data (SGML, X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programming to generate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design for navigation, ind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06440" y="228600"/>
            <a:ext cx="835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886040"/>
            <a:ext cx="4013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Theore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Understanding Hyp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b2b2b2"/>
                </a:solidFill>
                <a:latin typeface="Tahoma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b2b2b2"/>
                </a:solidFill>
                <a:latin typeface="Tahoma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22760" y="1886040"/>
            <a:ext cx="401328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oals/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templates,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nistrativ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al Site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Si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functions/services to provid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audiences do I want to serv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ve two items are intimately re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e or multiple si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tes (or site areas) devoted to audience abilities and/or inter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ence -- Who are the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eneral public/casual visi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avigation (unfamiliar with site stru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-to-find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resources “on top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use tools (search tools, navigation, e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ence -- Who are they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ea/Technical exper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ically richer design (more expert us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resource “on top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tools (deeper understanding of how they 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ssible comprom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ol with link to complex one </a:t>
            </a: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le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ence -- What Wanted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audiences have very different interests. For 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spective stu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rse/program information; funding; visa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rrent stu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events; course info; exam schedules; library resource access; pub ho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sic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ore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ing Hyper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oals/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e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ministrative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te Desig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tes for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udi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when content is mutually exclusive -- use a tree for the different are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4124160" y="3693960"/>
            <a:ext cx="609840" cy="76212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00280" y="521820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4160" y="5218200"/>
            <a:ext cx="60984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77000" y="5218200"/>
            <a:ext cx="60948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948040" y="4545000"/>
            <a:ext cx="1481040" cy="47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9080" y="4548240"/>
            <a:ext cx="0" cy="66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32480" y="4564080"/>
            <a:ext cx="1573200" cy="65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7" idx="3"/>
            <a:endCxn id="174" idx="3"/>
          </p:cNvCxnSpPr>
          <p:nvPr/>
        </p:nvCxnSpPr>
        <p:spPr>
          <a:xfrm flipH="1" flipV="1">
            <a:off x="4733640" y="4074480"/>
            <a:ext cx="1753200" cy="1524600"/>
          </a:xfrm>
          <a:prstGeom prst="curvedConnector5">
            <a:avLst>
              <a:gd name="adj1" fmla="val -13021"/>
              <a:gd name="adj2" fmla="val 50000"/>
              <a:gd name="adj3" fmla="val -13021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634840" y="5372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6120" y="53751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4200" y="53751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2" idx="1"/>
            <a:endCxn id="174" idx="1"/>
          </p:cNvCxnSpPr>
          <p:nvPr/>
        </p:nvCxnSpPr>
        <p:spPr>
          <a:xfrm flipH="1" rot="10800000">
            <a:off x="2633400" y="4074480"/>
            <a:ext cx="1491120" cy="1526400"/>
          </a:xfrm>
          <a:prstGeom prst="curvedConnector5">
            <a:avLst>
              <a:gd name="adj1" fmla="val -15310"/>
              <a:gd name="adj2" fmla="val 49988"/>
              <a:gd name="adj3" fmla="val -15310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86" name=""/>
          <p:cNvCxnSpPr>
            <a:stCxn id="176" idx="2"/>
            <a:endCxn id="174" idx="1"/>
          </p:cNvCxnSpPr>
          <p:nvPr/>
        </p:nvCxnSpPr>
        <p:spPr>
          <a:xfrm flipV="1" rot="16200000">
            <a:off x="3323520" y="4874400"/>
            <a:ext cx="1905480" cy="305640"/>
          </a:xfrm>
          <a:prstGeom prst="curvedConnector5">
            <a:avLst>
              <a:gd name="adj1" fmla="val -25000"/>
              <a:gd name="adj2" fmla="val 411084"/>
              <a:gd name="adj3" fmla="val -25000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Differen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Sites/Audien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icult when content is shar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ree possible sol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ynamic con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generated according to path explored (gets all the backlinks righ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backlin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presenting par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p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same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dience-Tailored Con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me Exampl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y Yaho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edit.my.yahoo.com/config/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Personal Lyco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808000"/>
                </a:solidFill>
                <a:latin typeface="Tahoma"/>
              </a:rPr>
              <a:t>(examp6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personal.lycos.com/default.asp?startpage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to maintai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user pro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stores user information, inter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 conc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oftware to track inter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levant only if lots of “flat”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: -- A Web site that is a gateway into a large collection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stomization i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oar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 topics, categ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designed for specific “special interest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designed to be compreh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for user to “forget” account ID, settings, indeed just about everything about their “personal setting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Issues: Techno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must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work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ced features often don’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balance design with functiona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hoos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required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choos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kills, equipment,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to download, speed to r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atic Technolog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Just about every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/Active-X  (slow to download, often problematic on slow machin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ing Video (slow, poor quality, high co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ing Audio (not bad, actu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 plugins (often slow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any do not support these dat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Issues: Story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ck-up design with storybo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arge site design, links, path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Understa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ructure at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ode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pl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sign possib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 desig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ock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vigatio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experim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“hide” the other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ite, then remove “future” p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 Issues: Templa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sign collection of standard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ing sections, subsection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libr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required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graphical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sign docu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specifying rules for pa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hand-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template, or auto-generate cont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te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Distribute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management responsibility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ontent ow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entrally-mandate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, templa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re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own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manager controls division of responsibilities, coordin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rd-Generation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much different from sec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nd Practices for Large Si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issues and appro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nistrative structures and log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n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014800" y="2471760"/>
            <a:ext cx="3514680" cy="4119480"/>
          </a:xfrm>
          <a:custGeom>
            <a:avLst/>
            <a:gdLst/>
            <a:ahLst/>
            <a:rect l="l" t="t" r="r" b="b"/>
            <a:pathLst>
              <a:path w="2214" h="2793">
                <a:moveTo>
                  <a:pt x="190" y="906"/>
                </a:moveTo>
                <a:cubicBezTo>
                  <a:pt x="236" y="766"/>
                  <a:pt x="269" y="621"/>
                  <a:pt x="305" y="478"/>
                </a:cubicBezTo>
                <a:cubicBezTo>
                  <a:pt x="353" y="286"/>
                  <a:pt x="328" y="336"/>
                  <a:pt x="472" y="144"/>
                </a:cubicBezTo>
                <a:cubicBezTo>
                  <a:pt x="489" y="121"/>
                  <a:pt x="527" y="130"/>
                  <a:pt x="555" y="123"/>
                </a:cubicBezTo>
                <a:cubicBezTo>
                  <a:pt x="590" y="102"/>
                  <a:pt x="621" y="73"/>
                  <a:pt x="660" y="61"/>
                </a:cubicBezTo>
                <a:cubicBezTo>
                  <a:pt x="740" y="36"/>
                  <a:pt x="827" y="43"/>
                  <a:pt x="910" y="29"/>
                </a:cubicBezTo>
                <a:cubicBezTo>
                  <a:pt x="1128" y="33"/>
                  <a:pt x="1392" y="0"/>
                  <a:pt x="1619" y="61"/>
                </a:cubicBezTo>
                <a:cubicBezTo>
                  <a:pt x="1647" y="82"/>
                  <a:pt x="1672" y="108"/>
                  <a:pt x="1703" y="123"/>
                </a:cubicBezTo>
                <a:cubicBezTo>
                  <a:pt x="1729" y="136"/>
                  <a:pt x="1763" y="128"/>
                  <a:pt x="1786" y="144"/>
                </a:cubicBezTo>
                <a:cubicBezTo>
                  <a:pt x="1888" y="215"/>
                  <a:pt x="1950" y="329"/>
                  <a:pt x="2037" y="415"/>
                </a:cubicBezTo>
                <a:cubicBezTo>
                  <a:pt x="2044" y="436"/>
                  <a:pt x="2053" y="457"/>
                  <a:pt x="2058" y="478"/>
                </a:cubicBezTo>
                <a:cubicBezTo>
                  <a:pt x="2063" y="499"/>
                  <a:pt x="2058" y="522"/>
                  <a:pt x="2068" y="541"/>
                </a:cubicBezTo>
                <a:cubicBezTo>
                  <a:pt x="2084" y="572"/>
                  <a:pt x="2110" y="596"/>
                  <a:pt x="2131" y="624"/>
                </a:cubicBezTo>
                <a:cubicBezTo>
                  <a:pt x="2170" y="740"/>
                  <a:pt x="2149" y="665"/>
                  <a:pt x="2172" y="854"/>
                </a:cubicBezTo>
                <a:cubicBezTo>
                  <a:pt x="2175" y="882"/>
                  <a:pt x="2188" y="909"/>
                  <a:pt x="2193" y="937"/>
                </a:cubicBezTo>
                <a:cubicBezTo>
                  <a:pt x="2206" y="1004"/>
                  <a:pt x="2210" y="1105"/>
                  <a:pt x="2214" y="1167"/>
                </a:cubicBezTo>
                <a:cubicBezTo>
                  <a:pt x="2211" y="1417"/>
                  <a:pt x="2210" y="1668"/>
                  <a:pt x="2204" y="1918"/>
                </a:cubicBezTo>
                <a:cubicBezTo>
                  <a:pt x="2202" y="2003"/>
                  <a:pt x="2175" y="2217"/>
                  <a:pt x="2131" y="2294"/>
                </a:cubicBezTo>
                <a:cubicBezTo>
                  <a:pt x="2116" y="2320"/>
                  <a:pt x="2087" y="2334"/>
                  <a:pt x="2068" y="2356"/>
                </a:cubicBezTo>
                <a:cubicBezTo>
                  <a:pt x="2058" y="2367"/>
                  <a:pt x="1993" y="2464"/>
                  <a:pt x="1964" y="2482"/>
                </a:cubicBezTo>
                <a:cubicBezTo>
                  <a:pt x="1941" y="2496"/>
                  <a:pt x="1836" y="2519"/>
                  <a:pt x="1818" y="2523"/>
                </a:cubicBezTo>
                <a:cubicBezTo>
                  <a:pt x="1762" y="2565"/>
                  <a:pt x="1717" y="2627"/>
                  <a:pt x="1651" y="2649"/>
                </a:cubicBezTo>
                <a:cubicBezTo>
                  <a:pt x="1394" y="2735"/>
                  <a:pt x="1103" y="2734"/>
                  <a:pt x="837" y="2743"/>
                </a:cubicBezTo>
                <a:cubicBezTo>
                  <a:pt x="350" y="2732"/>
                  <a:pt x="468" y="2793"/>
                  <a:pt x="200" y="2659"/>
                </a:cubicBezTo>
                <a:cubicBezTo>
                  <a:pt x="59" y="2589"/>
                  <a:pt x="194" y="2676"/>
                  <a:pt x="107" y="2617"/>
                </a:cubicBezTo>
                <a:cubicBezTo>
                  <a:pt x="0" y="2409"/>
                  <a:pt x="78" y="2154"/>
                  <a:pt x="86" y="1929"/>
                </a:cubicBezTo>
                <a:cubicBezTo>
                  <a:pt x="93" y="1727"/>
                  <a:pt x="114" y="1514"/>
                  <a:pt x="148" y="1313"/>
                </a:cubicBezTo>
                <a:cubicBezTo>
                  <a:pt x="172" y="1170"/>
                  <a:pt x="203" y="1054"/>
                  <a:pt x="190" y="906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9080" y="3127320"/>
            <a:ext cx="3171960" cy="3129120"/>
          </a:xfrm>
          <a:custGeom>
            <a:avLst/>
            <a:gdLst/>
            <a:ahLst/>
            <a:rect l="l" t="t" r="r" b="b"/>
            <a:pathLst>
              <a:path w="1998" h="1971">
                <a:moveTo>
                  <a:pt x="412" y="587"/>
                </a:moveTo>
                <a:cubicBezTo>
                  <a:pt x="436" y="576"/>
                  <a:pt x="401" y="570"/>
                  <a:pt x="423" y="555"/>
                </a:cubicBezTo>
                <a:cubicBezTo>
                  <a:pt x="433" y="548"/>
                  <a:pt x="435" y="533"/>
                  <a:pt x="443" y="524"/>
                </a:cubicBezTo>
                <a:cubicBezTo>
                  <a:pt x="463" y="502"/>
                  <a:pt x="483" y="480"/>
                  <a:pt x="506" y="462"/>
                </a:cubicBezTo>
                <a:cubicBezTo>
                  <a:pt x="520" y="451"/>
                  <a:pt x="536" y="443"/>
                  <a:pt x="548" y="430"/>
                </a:cubicBezTo>
                <a:cubicBezTo>
                  <a:pt x="560" y="418"/>
                  <a:pt x="567" y="400"/>
                  <a:pt x="579" y="388"/>
                </a:cubicBezTo>
                <a:cubicBezTo>
                  <a:pt x="625" y="342"/>
                  <a:pt x="683" y="294"/>
                  <a:pt x="746" y="274"/>
                </a:cubicBezTo>
                <a:cubicBezTo>
                  <a:pt x="806" y="212"/>
                  <a:pt x="895" y="188"/>
                  <a:pt x="965" y="138"/>
                </a:cubicBezTo>
                <a:cubicBezTo>
                  <a:pt x="989" y="121"/>
                  <a:pt x="1005" y="94"/>
                  <a:pt x="1028" y="75"/>
                </a:cubicBezTo>
                <a:cubicBezTo>
                  <a:pt x="1053" y="55"/>
                  <a:pt x="1082" y="53"/>
                  <a:pt x="1111" y="44"/>
                </a:cubicBezTo>
                <a:cubicBezTo>
                  <a:pt x="1132" y="38"/>
                  <a:pt x="1174" y="23"/>
                  <a:pt x="1174" y="23"/>
                </a:cubicBezTo>
                <a:cubicBezTo>
                  <a:pt x="1265" y="27"/>
                  <a:pt x="1366" y="0"/>
                  <a:pt x="1445" y="44"/>
                </a:cubicBezTo>
                <a:cubicBezTo>
                  <a:pt x="1530" y="92"/>
                  <a:pt x="1576" y="163"/>
                  <a:pt x="1675" y="180"/>
                </a:cubicBezTo>
                <a:cubicBezTo>
                  <a:pt x="1718" y="245"/>
                  <a:pt x="1756" y="314"/>
                  <a:pt x="1800" y="378"/>
                </a:cubicBezTo>
                <a:cubicBezTo>
                  <a:pt x="1816" y="444"/>
                  <a:pt x="1819" y="512"/>
                  <a:pt x="1842" y="576"/>
                </a:cubicBezTo>
                <a:cubicBezTo>
                  <a:pt x="1846" y="588"/>
                  <a:pt x="1856" y="597"/>
                  <a:pt x="1862" y="608"/>
                </a:cubicBezTo>
                <a:cubicBezTo>
                  <a:pt x="1867" y="618"/>
                  <a:pt x="1869" y="629"/>
                  <a:pt x="1873" y="639"/>
                </a:cubicBezTo>
                <a:cubicBezTo>
                  <a:pt x="1884" y="727"/>
                  <a:pt x="1913" y="822"/>
                  <a:pt x="1935" y="910"/>
                </a:cubicBezTo>
                <a:cubicBezTo>
                  <a:pt x="1948" y="1025"/>
                  <a:pt x="1956" y="1140"/>
                  <a:pt x="1967" y="1255"/>
                </a:cubicBezTo>
                <a:cubicBezTo>
                  <a:pt x="1966" y="1291"/>
                  <a:pt x="1998" y="1588"/>
                  <a:pt x="1935" y="1714"/>
                </a:cubicBezTo>
                <a:cubicBezTo>
                  <a:pt x="1920" y="1744"/>
                  <a:pt x="1815" y="1845"/>
                  <a:pt x="1800" y="1850"/>
                </a:cubicBezTo>
                <a:cubicBezTo>
                  <a:pt x="1412" y="1971"/>
                  <a:pt x="1134" y="1923"/>
                  <a:pt x="673" y="1923"/>
                </a:cubicBezTo>
                <a:cubicBezTo>
                  <a:pt x="562" y="1919"/>
                  <a:pt x="450" y="1918"/>
                  <a:pt x="339" y="1912"/>
                </a:cubicBezTo>
                <a:cubicBezTo>
                  <a:pt x="291" y="1910"/>
                  <a:pt x="257" y="1904"/>
                  <a:pt x="214" y="1891"/>
                </a:cubicBezTo>
                <a:cubicBezTo>
                  <a:pt x="193" y="1885"/>
                  <a:pt x="151" y="1870"/>
                  <a:pt x="151" y="1870"/>
                </a:cubicBezTo>
                <a:cubicBezTo>
                  <a:pt x="141" y="1860"/>
                  <a:pt x="129" y="1850"/>
                  <a:pt x="120" y="1839"/>
                </a:cubicBezTo>
                <a:cubicBezTo>
                  <a:pt x="101" y="1816"/>
                  <a:pt x="68" y="1766"/>
                  <a:pt x="68" y="1766"/>
                </a:cubicBezTo>
                <a:cubicBezTo>
                  <a:pt x="37" y="1642"/>
                  <a:pt x="0" y="1494"/>
                  <a:pt x="78" y="1380"/>
                </a:cubicBezTo>
                <a:cubicBezTo>
                  <a:pt x="97" y="1269"/>
                  <a:pt x="123" y="1164"/>
                  <a:pt x="151" y="1056"/>
                </a:cubicBezTo>
                <a:cubicBezTo>
                  <a:pt x="174" y="967"/>
                  <a:pt x="145" y="1020"/>
                  <a:pt x="183" y="962"/>
                </a:cubicBezTo>
                <a:cubicBezTo>
                  <a:pt x="215" y="862"/>
                  <a:pt x="302" y="776"/>
                  <a:pt x="360" y="691"/>
                </a:cubicBezTo>
                <a:cubicBezTo>
                  <a:pt x="367" y="670"/>
                  <a:pt x="374" y="650"/>
                  <a:pt x="381" y="629"/>
                </a:cubicBezTo>
                <a:cubicBezTo>
                  <a:pt x="384" y="618"/>
                  <a:pt x="398" y="606"/>
                  <a:pt x="391" y="597"/>
                </a:cubicBezTo>
                <a:cubicBezTo>
                  <a:pt x="383" y="586"/>
                  <a:pt x="426" y="590"/>
                  <a:pt x="412" y="587"/>
                </a:cubicBezTo>
                <a:close/>
              </a:path>
            </a:pathLst>
          </a:custGeom>
          <a:solidFill>
            <a:srgbClr val="5e574e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te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1905120"/>
            <a:ext cx="609480" cy="761760"/>
          </a:xfrm>
          <a:prstGeom prst="rect">
            <a:avLst/>
          </a:prstGeom>
          <a:solidFill>
            <a:srgbClr val="ff6600">
              <a:alpha val="5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3429000"/>
            <a:ext cx="609840" cy="76212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3429000"/>
            <a:ext cx="609480" cy="76212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3429000"/>
            <a:ext cx="609480" cy="76212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1932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4852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5105520"/>
            <a:ext cx="609480" cy="76176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0600" y="3429000"/>
            <a:ext cx="609480" cy="762120"/>
          </a:xfrm>
          <a:prstGeom prst="rect">
            <a:avLst/>
          </a:prstGeom>
          <a:solidFill>
            <a:srgbClr val="ff6600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182240" y="2771640"/>
            <a:ext cx="3048120" cy="45900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608800" y="4284720"/>
            <a:ext cx="529920" cy="8222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3014640" y="2755800"/>
            <a:ext cx="1481040" cy="4748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95680" y="2759040"/>
            <a:ext cx="0" cy="66996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99080" y="2774880"/>
            <a:ext cx="1573200" cy="65412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94200" y="4322880"/>
            <a:ext cx="529920" cy="73800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11880" y="4308480"/>
            <a:ext cx="181080" cy="6890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6080" y="4243320"/>
            <a:ext cx="960480" cy="78732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508040" y="4292640"/>
            <a:ext cx="1309680" cy="73800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4327560"/>
            <a:ext cx="936720" cy="6872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85600" y="4344840"/>
            <a:ext cx="198360" cy="75564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846240" y="4346640"/>
            <a:ext cx="446040" cy="654120"/>
          </a:xfrm>
          <a:prstGeom prst="line">
            <a:avLst/>
          </a:prstGeom>
          <a:ln w="1260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tributed Manage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up-to-date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train on central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ts “compete” to be more up-to-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ful coordination skill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technically sophisticated central management, schedul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ement Too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orking and Publish Site Area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to publish updates from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work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ublish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s to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back of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nges if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ls for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strict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Revision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t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-specific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77760" y="2303640"/>
            <a:ext cx="3063960" cy="1904760"/>
          </a:xfrm>
          <a:prstGeom prst="rect">
            <a:avLst/>
          </a:prstGeom>
          <a:solidFill>
            <a:srgbClr val="9966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87880" y="2306520"/>
            <a:ext cx="3063960" cy="1905120"/>
          </a:xfrm>
          <a:prstGeom prst="rect">
            <a:avLst/>
          </a:prstGeom>
          <a:solidFill>
            <a:srgbClr val="9966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41720" y="4641840"/>
            <a:ext cx="3063600" cy="19051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lementatio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98520" y="2451240"/>
            <a:ext cx="2289600" cy="1509480"/>
            <a:chOff x="1298520" y="2451240"/>
            <a:chExt cx="2289600" cy="1509480"/>
          </a:xfrm>
        </p:grpSpPr>
        <p:sp>
          <p:nvSpPr>
            <p:cNvPr id="240" name=""/>
            <p:cNvSpPr/>
            <p:nvPr/>
          </p:nvSpPr>
          <p:spPr>
            <a:xfrm>
              <a:off x="2408760" y="2451240"/>
              <a:ext cx="188640" cy="2901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36440" y="3031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08760" y="3031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51640" y="3031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8824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1836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2544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6264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4596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9280" y="3670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370160" y="303156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476720" y="2781360"/>
              <a:ext cx="94392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2847600" y="3357720"/>
              <a:ext cx="16380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044080" y="2775240"/>
              <a:ext cx="45864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502720" y="2776320"/>
              <a:ext cx="36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66080" y="2782440"/>
              <a:ext cx="4870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68920" y="3372120"/>
              <a:ext cx="16380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65400" y="3366720"/>
              <a:ext cx="5580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32000" y="3341880"/>
              <a:ext cx="29736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1577520" y="3360600"/>
              <a:ext cx="40536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03080" y="3373920"/>
              <a:ext cx="29016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1942560" y="3380760"/>
              <a:ext cx="6120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301480" y="3381480"/>
              <a:ext cx="1378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50" idx="1"/>
              <a:endCxn id="240" idx="1"/>
            </p:cNvCxnSpPr>
            <p:nvPr/>
          </p:nvCxnSpPr>
          <p:spPr>
            <a:xfrm flipH="1" rot="10800000">
              <a:off x="1369080" y="2595600"/>
              <a:ext cx="1039320" cy="581040"/>
            </a:xfrm>
            <a:prstGeom prst="curvedConnector5">
              <a:avLst>
                <a:gd name="adj1" fmla="val -6791"/>
                <a:gd name="adj2" fmla="val 49969"/>
                <a:gd name="adj3" fmla="val -6791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43" idx="3"/>
              <a:endCxn id="240" idx="3"/>
            </p:cNvCxnSpPr>
            <p:nvPr/>
          </p:nvCxnSpPr>
          <p:spPr>
            <a:xfrm flipH="1" flipV="1">
              <a:off x="2596680" y="2595960"/>
              <a:ext cx="543240" cy="581040"/>
            </a:xfrm>
            <a:prstGeom prst="curvedConnector5">
              <a:avLst>
                <a:gd name="adj1" fmla="val -12997"/>
                <a:gd name="adj2" fmla="val 49969"/>
                <a:gd name="adj3" fmla="val -12997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49" idx="3"/>
              <a:endCxn id="240" idx="3"/>
            </p:cNvCxnSpPr>
            <p:nvPr/>
          </p:nvCxnSpPr>
          <p:spPr>
            <a:xfrm flipH="1" flipV="1">
              <a:off x="2596680" y="2595600"/>
              <a:ext cx="921240" cy="1220040"/>
            </a:xfrm>
            <a:prstGeom prst="curvedConnector5">
              <a:avLst>
                <a:gd name="adj1" fmla="val -7662"/>
                <a:gd name="adj2" fmla="val 50000"/>
                <a:gd name="adj3" fmla="val -7662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49" idx="3"/>
              <a:endCxn id="243" idx="3"/>
            </p:cNvCxnSpPr>
            <p:nvPr/>
          </p:nvCxnSpPr>
          <p:spPr>
            <a:xfrm flipH="1" flipV="1">
              <a:off x="3139560" y="3176640"/>
              <a:ext cx="378360" cy="639360"/>
            </a:xfrm>
            <a:prstGeom prst="curvedConnector5">
              <a:avLst>
                <a:gd name="adj1" fmla="val -15809"/>
                <a:gd name="adj2" fmla="val 49971"/>
                <a:gd name="adj3" fmla="val -15809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67" name=""/>
          <p:cNvGrpSpPr/>
          <p:nvPr/>
        </p:nvGrpSpPr>
        <p:grpSpPr>
          <a:xfrm>
            <a:off x="5475240" y="2554200"/>
            <a:ext cx="2289600" cy="1509840"/>
            <a:chOff x="5475240" y="2554200"/>
            <a:chExt cx="2289600" cy="1509840"/>
          </a:xfrm>
        </p:grpSpPr>
        <p:sp>
          <p:nvSpPr>
            <p:cNvPr id="268" name=""/>
            <p:cNvSpPr/>
            <p:nvPr/>
          </p:nvSpPr>
          <p:spPr>
            <a:xfrm>
              <a:off x="6585480" y="2554200"/>
              <a:ext cx="188640" cy="2901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113160" y="3134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85480" y="3134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28360" y="3134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6496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99508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0216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3936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2268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06000" y="3773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46880" y="3134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653440" y="2884320"/>
              <a:ext cx="94392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024320" y="3461040"/>
              <a:ext cx="16380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220800" y="2878200"/>
              <a:ext cx="45864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679440" y="2879640"/>
              <a:ext cx="36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42800" y="2885400"/>
              <a:ext cx="4870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45640" y="3475440"/>
              <a:ext cx="16380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42120" y="3470040"/>
              <a:ext cx="5580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08720" y="3445200"/>
              <a:ext cx="29736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5754240" y="3463920"/>
              <a:ext cx="40536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79800" y="3477240"/>
              <a:ext cx="29016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119280" y="3483720"/>
              <a:ext cx="6120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478200" y="3484440"/>
              <a:ext cx="1378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78" idx="1"/>
              <a:endCxn id="268" idx="1"/>
            </p:cNvCxnSpPr>
            <p:nvPr/>
          </p:nvCxnSpPr>
          <p:spPr>
            <a:xfrm flipH="1" rot="10800000">
              <a:off x="5545800" y="2698560"/>
              <a:ext cx="1039320" cy="581400"/>
            </a:xfrm>
            <a:prstGeom prst="curvedConnector5">
              <a:avLst>
                <a:gd name="adj1" fmla="val -6791"/>
                <a:gd name="adj2" fmla="val 50000"/>
                <a:gd name="adj3" fmla="val -6791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71" idx="3"/>
              <a:endCxn id="268" idx="3"/>
            </p:cNvCxnSpPr>
            <p:nvPr/>
          </p:nvCxnSpPr>
          <p:spPr>
            <a:xfrm flipH="1" flipV="1">
              <a:off x="6773400" y="2698560"/>
              <a:ext cx="543240" cy="581400"/>
            </a:xfrm>
            <a:prstGeom prst="curvedConnector5">
              <a:avLst>
                <a:gd name="adj1" fmla="val -12997"/>
                <a:gd name="adj2" fmla="val 50000"/>
                <a:gd name="adj3" fmla="val -12997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93" name=""/>
            <p:cNvCxnSpPr>
              <a:stCxn id="277" idx="3"/>
              <a:endCxn id="268" idx="3"/>
            </p:cNvCxnSpPr>
            <p:nvPr/>
          </p:nvCxnSpPr>
          <p:spPr>
            <a:xfrm flipH="1" flipV="1">
              <a:off x="6773400" y="2698920"/>
              <a:ext cx="921240" cy="1220400"/>
            </a:xfrm>
            <a:prstGeom prst="curvedConnector5">
              <a:avLst>
                <a:gd name="adj1" fmla="val -7662"/>
                <a:gd name="adj2" fmla="val 49985"/>
                <a:gd name="adj3" fmla="val -7662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77" idx="3"/>
              <a:endCxn id="271" idx="3"/>
            </p:cNvCxnSpPr>
            <p:nvPr/>
          </p:nvCxnSpPr>
          <p:spPr>
            <a:xfrm flipH="1" flipV="1">
              <a:off x="7316280" y="3279600"/>
              <a:ext cx="378360" cy="639360"/>
            </a:xfrm>
            <a:prstGeom prst="curvedConnector5">
              <a:avLst>
                <a:gd name="adj1" fmla="val -15809"/>
                <a:gd name="adj2" fmla="val 49971"/>
                <a:gd name="adj3" fmla="val -15809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  <p:grpSp>
        <p:nvGrpSpPr>
          <p:cNvPr id="295" name=""/>
          <p:cNvGrpSpPr/>
          <p:nvPr/>
        </p:nvGrpSpPr>
        <p:grpSpPr>
          <a:xfrm>
            <a:off x="2611080" y="4840200"/>
            <a:ext cx="2289960" cy="1509840"/>
            <a:chOff x="2611080" y="4840200"/>
            <a:chExt cx="2289960" cy="1509840"/>
          </a:xfrm>
        </p:grpSpPr>
        <p:sp>
          <p:nvSpPr>
            <p:cNvPr id="296" name=""/>
            <p:cNvSpPr/>
            <p:nvPr/>
          </p:nvSpPr>
          <p:spPr>
            <a:xfrm>
              <a:off x="3721320" y="4840200"/>
              <a:ext cx="188640" cy="29016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49000" y="5420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21320" y="5420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64200" y="5420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0080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3128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3800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7556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5888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2200" y="6059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82720" y="5420880"/>
              <a:ext cx="188640" cy="290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788920" y="5170320"/>
              <a:ext cx="94428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4160520" y="5747040"/>
              <a:ext cx="164160" cy="31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57000" y="5164200"/>
              <a:ext cx="45864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3815280" y="5165640"/>
              <a:ext cx="36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78640" y="5171400"/>
              <a:ext cx="4870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81480" y="5761440"/>
              <a:ext cx="16416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78320" y="5756040"/>
              <a:ext cx="55800" cy="26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4920" y="5731200"/>
              <a:ext cx="297360" cy="29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889720" y="5749920"/>
              <a:ext cx="405720" cy="2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15640" y="5763240"/>
              <a:ext cx="29016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55120" y="5769720"/>
              <a:ext cx="61200" cy="28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614400" y="5770440"/>
              <a:ext cx="137880" cy="24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06" idx="1"/>
              <a:endCxn id="296" idx="1"/>
            </p:cNvCxnSpPr>
            <p:nvPr/>
          </p:nvCxnSpPr>
          <p:spPr>
            <a:xfrm flipH="1" rot="10800000">
              <a:off x="2681640" y="4984560"/>
              <a:ext cx="1039320" cy="581400"/>
            </a:xfrm>
            <a:prstGeom prst="curvedConnector5">
              <a:avLst>
                <a:gd name="adj1" fmla="val -6791"/>
                <a:gd name="adj2" fmla="val 50000"/>
                <a:gd name="adj3" fmla="val -6791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20" name=""/>
            <p:cNvCxnSpPr>
              <a:stCxn id="299" idx="3"/>
              <a:endCxn id="296" idx="3"/>
            </p:cNvCxnSpPr>
            <p:nvPr/>
          </p:nvCxnSpPr>
          <p:spPr>
            <a:xfrm flipH="1" flipV="1">
              <a:off x="3909960" y="4984560"/>
              <a:ext cx="543600" cy="581400"/>
            </a:xfrm>
            <a:prstGeom prst="curvedConnector5">
              <a:avLst>
                <a:gd name="adj1" fmla="val -12988"/>
                <a:gd name="adj2" fmla="val 50000"/>
                <a:gd name="adj3" fmla="val -12988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21" name=""/>
            <p:cNvCxnSpPr>
              <a:stCxn id="305" idx="3"/>
              <a:endCxn id="296" idx="3"/>
            </p:cNvCxnSpPr>
            <p:nvPr/>
          </p:nvCxnSpPr>
          <p:spPr>
            <a:xfrm flipH="1" flipV="1">
              <a:off x="3909600" y="4984920"/>
              <a:ext cx="921240" cy="1220400"/>
            </a:xfrm>
            <a:prstGeom prst="curvedConnector5">
              <a:avLst>
                <a:gd name="adj1" fmla="val -7662"/>
                <a:gd name="adj2" fmla="val 49985"/>
                <a:gd name="adj3" fmla="val -7662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322" name=""/>
            <p:cNvCxnSpPr>
              <a:stCxn id="305" idx="3"/>
              <a:endCxn id="299" idx="3"/>
            </p:cNvCxnSpPr>
            <p:nvPr/>
          </p:nvCxnSpPr>
          <p:spPr>
            <a:xfrm flipH="1" flipV="1">
              <a:off x="4452480" y="5565600"/>
              <a:ext cx="378360" cy="639360"/>
            </a:xfrm>
            <a:prstGeom prst="curvedConnector5">
              <a:avLst>
                <a:gd name="adj1" fmla="val -15809"/>
                <a:gd name="adj2" fmla="val 49971"/>
                <a:gd name="adj3" fmla="val -15809"/>
              </a:avLst>
            </a:prstGeom>
            <a:ln w="1260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</p:grpSp>
      <p:sp>
        <p:nvSpPr>
          <p:cNvPr id="323" name=""/>
          <p:cNvSpPr/>
          <p:nvPr/>
        </p:nvSpPr>
        <p:spPr>
          <a:xfrm>
            <a:off x="1580760" y="1781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941080" y="181764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28720" y="52657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c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89400" y="3197160"/>
            <a:ext cx="579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13480" y="4521240"/>
            <a:ext cx="1139760" cy="1623960"/>
          </a:xfrm>
          <a:custGeom>
            <a:avLst/>
            <a:gdLst/>
            <a:ahLst/>
            <a:rect l="l" t="t" r="r" b="b"/>
            <a:pathLst>
              <a:path w="718" h="1023">
                <a:moveTo>
                  <a:pt x="692" y="0"/>
                </a:moveTo>
                <a:cubicBezTo>
                  <a:pt x="685" y="193"/>
                  <a:pt x="718" y="567"/>
                  <a:pt x="587" y="763"/>
                </a:cubicBezTo>
                <a:cubicBezTo>
                  <a:pt x="551" y="878"/>
                  <a:pt x="602" y="751"/>
                  <a:pt x="543" y="825"/>
                </a:cubicBezTo>
                <a:cubicBezTo>
                  <a:pt x="484" y="899"/>
                  <a:pt x="565" y="868"/>
                  <a:pt x="467" y="900"/>
                </a:cubicBezTo>
                <a:cubicBezTo>
                  <a:pt x="323" y="998"/>
                  <a:pt x="173" y="1023"/>
                  <a:pt x="0" y="1023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ools 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scape Site Publis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crosoft FrontPage 98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Objects F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Quad HoTMetaL Publish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anet suite/management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ement Struct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ntral manager for site content, design, policy issu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with a committee, where necessa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development staff to install/test software, manag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Contract] graphics design sta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-based (or other) network between central staff and content provi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xt-Generation Web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886040"/>
            <a:ext cx="86756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Ian Gra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utoronto.ca/ian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groveware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an.graham@utoronto.c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ools Overview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ttp://www.utoronto.ca/ian/books/html4ed/extra/extra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lation to Application 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ry Similar i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 here is on largely static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tools are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y not be any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eparate from Web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simpler,  less function-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rtance of navigation, clear design is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nderstanding Hypermed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Web as Hyper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eb is 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m of hyper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r because the technology is simp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complex because of the interrelationships possible with hyper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ssential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x of disparat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online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loration by view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eb Design Mod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in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ree-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ynamic Stru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pproaches whe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ropriate. They can b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ix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gether on the same si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ear Hypermed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arku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nforces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line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ructure  </a:t>
            </a:r>
            <a:r>
              <a:rPr b="0" lang="en-US" sz="2000" spc="-1" strike="noStrike">
                <a:solidFill>
                  <a:srgbClr val="996633"/>
                </a:solidFill>
                <a:latin typeface="Tahoma"/>
              </a:rPr>
              <a:t>(examp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4724280"/>
            <a:ext cx="609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724280"/>
            <a:ext cx="60984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4724280"/>
            <a:ext cx="609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4724280"/>
            <a:ext cx="6094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4724280"/>
            <a:ext cx="60984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6665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96216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25744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5527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733920"/>
            <a:ext cx="609840" cy="761760"/>
          </a:xfrm>
          <a:prstGeom prst="rect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3"/>
            <a:endCxn id="98" idx="0"/>
          </p:cNvCxnSpPr>
          <p:nvPr/>
        </p:nvCxnSpPr>
        <p:spPr>
          <a:xfrm>
            <a:off x="1447920" y="4114440"/>
            <a:ext cx="915120" cy="6102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3" name=""/>
          <p:cNvCxnSpPr>
            <a:stCxn id="111" idx="3"/>
            <a:endCxn id="101" idx="0"/>
          </p:cNvCxnSpPr>
          <p:nvPr/>
        </p:nvCxnSpPr>
        <p:spPr>
          <a:xfrm>
            <a:off x="1447560" y="4114440"/>
            <a:ext cx="4801320" cy="6102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689560" y="45561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525780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0322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98" idx="2"/>
            <a:endCxn id="111" idx="2"/>
          </p:cNvCxnSpPr>
          <p:nvPr/>
        </p:nvCxnSpPr>
        <p:spPr>
          <a:xfrm flipV="1" rot="16200000">
            <a:off x="1256760" y="4380840"/>
            <a:ext cx="991440" cy="1220040"/>
          </a:xfrm>
          <a:prstGeom prst="curvedConnector5">
            <a:avLst>
              <a:gd name="adj1" fmla="val -23065"/>
              <a:gd name="adj2" fmla="val 50000"/>
              <a:gd name="adj3" fmla="val -23065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18" name=""/>
          <p:cNvCxnSpPr>
            <a:stCxn id="99" idx="2"/>
            <a:endCxn id="111" idx="2"/>
          </p:cNvCxnSpPr>
          <p:nvPr/>
        </p:nvCxnSpPr>
        <p:spPr>
          <a:xfrm flipV="1" rot="16200000">
            <a:off x="1904400" y="3733200"/>
            <a:ext cx="991440" cy="2515320"/>
          </a:xfrm>
          <a:prstGeom prst="curvedConnector5">
            <a:avLst>
              <a:gd name="adj1" fmla="val -69851"/>
              <a:gd name="adj2" fmla="val 50000"/>
              <a:gd name="adj3" fmla="val -69851"/>
            </a:avLst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7848720" y="4952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88120" y="491796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ear Hypermed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propriate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urally” linear content (converted book, documentation,  lengthy cont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avigation, easy to underst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navigational flexibility,inappropriate for more complex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ee-Like Cont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hierarchic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structured con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rkup, page structure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defin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with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as 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atalo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s as a “drill-down” databas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7T02:45:35Z</dcterms:created>
  <dc:creator>Ian Graham</dc:creator>
  <dc:description/>
  <dc:language>en-US</dc:language>
  <cp:lastModifiedBy>Ian Graham</cp:lastModifiedBy>
  <cp:lastPrinted>1998-04-22T15:47:15Z</cp:lastPrinted>
  <dcterms:modified xsi:type="dcterms:W3CDTF">1998-04-22T17:59:40Z</dcterms:modified>
  <cp:revision>7</cp:revision>
  <dc:subject/>
  <dc:title>Web: Staying Up-To-Date </dc:title>
</cp:coreProperties>
</file>