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05F-118E-4D46-B894-DEEEEA37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CB6-91B2-4F57-916F-10FA9BFB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4FE-BF8C-4CD7-96CA-8764DE8C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2C7-DE74-4057-9574-30BF0F9A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87E5-B8F0-453E-85E9-C91A538E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EB23-E97E-439B-BDEA-8026F9F2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CB2-7647-4429-8549-9219D7D7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0D53-ACEF-4E28-A171-FFE2F34A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F716-B3CB-4959-8265-6834CE6B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03DF-DB1D-486A-8F3A-AF8E743D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A337-7FD4-41E3-AF09-417BE572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80E-977C-4304-A7BF-E4E0D771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8CEA-FA1D-48C7-A5D4-F7545D85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F4DF-01E2-4699-9691-3651B580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1EF6-0C6A-4E4D-9818-38F17FF9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3916-83FE-40CA-ADA0-0D55B12A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66AE-41D1-4A50-AE43-D7E4490F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362-200D-47A6-BFC3-98C07CB8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B7F-8A1F-4E16-81AF-1E0A10E0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03C-FFBA-43D6-B032-30222B6D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DBF7-D30F-4172-A7A3-BFB0F245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BEC-B745-42BC-9E01-CA4109FF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AEDB-D158-463D-B3A9-326EFB73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985-53D6-4A97-9914-89B7BF3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68C1-1F8A-4A47-856D-0070FF5C69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473B-2B40-4846-906B-CC95F4BE41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Application Desig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17884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an Grah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utoronto.ca/ian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ovewa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groveware.com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inci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interfaces as simpl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function of page, or functions available on a page, are obvi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niform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ame design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inciples (cont.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nima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how functions that are relev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v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clear, well defined navigation within and betwee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lp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ain mistakes, or how to do th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-Centric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for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ir needs,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 their knowledge, a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nfrequent us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simpler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requent us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more complex designs,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transform requirements into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3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Design of software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3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Web interface prototyping an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Design core components of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Usabilit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6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Implement al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More user testing, tuning -- prepare document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ocess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ocess (3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8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Release! Is it finished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9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Ongoing support and 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ep 1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- Ongoing maintenance and error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eb-based list of campus ev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uitive use by infrequent, non-expert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okmarkable “views” of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posting and event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and access control for management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mpus Main Ev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ewing Ev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lendar and lis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able” formats for some vi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navigate between different vi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select boxes to define criteria for events being view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2, example3, example4, example5, example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lendar Views Interfa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imple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buttons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” functions on t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 clearly display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uitive navigation embedded in the views (change week, go to specific event,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User-centric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Asp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sability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tested with real us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eatures based on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t-format vie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ookmark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ference for futur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Web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nd op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ste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ministrative Fun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ser Authent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vious pages show ways to log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ve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itional functions, areas of the system, depending on user’s permis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 laid out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istinguis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se new areas of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al Lay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ge-relat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as” denoted by tab b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” functions at top of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a-specific” functions in left-hand button b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-specific” functions embedded in p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ement Fun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st Tasks and Task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“management”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“functions” in  this management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functions in page content (reuse icon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ng “management” area changes the list of “functions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9, example1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tural starting, stopping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loop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nt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ui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user on each ste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help where appropr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for, handle and comment 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occur in user inpu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convenient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not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11, example12, example13, example14, example1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op returns to starting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flec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nges that have been d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nfir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changes took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with errors are reproduced with descriptions of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ways is a link to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anc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ctional 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92400" y="3147840"/>
            <a:ext cx="1042920" cy="62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16440" y="3151080"/>
            <a:ext cx="1042920" cy="62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0240" y="3116160"/>
            <a:ext cx="1042920" cy="62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33680" y="3429000"/>
            <a:ext cx="9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69040" y="3429000"/>
            <a:ext cx="1093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3" idx="3"/>
            <a:endCxn id="133" idx="1"/>
          </p:cNvCxnSpPr>
          <p:nvPr/>
        </p:nvCxnSpPr>
        <p:spPr>
          <a:xfrm flipH="1">
            <a:off x="3915720" y="3465000"/>
            <a:ext cx="1043640" cy="2520"/>
          </a:xfrm>
          <a:prstGeom prst="curvedConnector5">
            <a:avLst>
              <a:gd name="adj1" fmla="val -45790"/>
              <a:gd name="adj2" fmla="val -36400000"/>
              <a:gd name="adj3" fmla="val -45790"/>
            </a:avLst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4033800" y="18972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15160" y="386856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50640" y="3833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17600" y="3840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4" idx="3"/>
            <a:endCxn id="133" idx="1"/>
          </p:cNvCxnSpPr>
          <p:nvPr/>
        </p:nvCxnSpPr>
        <p:spPr>
          <a:xfrm flipH="1">
            <a:off x="3916080" y="3430080"/>
            <a:ext cx="3907440" cy="35640"/>
          </a:xfrm>
          <a:prstGeom prst="curvedConnector5">
            <a:avLst>
              <a:gd name="adj1" fmla="val -16087"/>
              <a:gd name="adj2" fmla="val -3870408"/>
              <a:gd name="adj3" fmla="val -16087"/>
            </a:avLst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5357880" y="29052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8080" y="593892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cept, or can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3" idx="3"/>
            <a:endCxn id="132" idx="1"/>
          </p:cNvCxnSpPr>
          <p:nvPr/>
        </p:nvCxnSpPr>
        <p:spPr>
          <a:xfrm flipH="1" flipV="1">
            <a:off x="1292040" y="3462120"/>
            <a:ext cx="3667680" cy="3600"/>
          </a:xfrm>
          <a:prstGeom prst="curvedConnector5">
            <a:avLst>
              <a:gd name="adj1" fmla="val -35967"/>
              <a:gd name="adj2" fmla="val -34700000"/>
              <a:gd name="adj3" fmla="val -35967"/>
            </a:avLst>
          </a:prstGeom>
          <a:ln cap="rnd" w="3240">
            <a:solidFill>
              <a:srgbClr val="5e574e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46" name=""/>
          <p:cNvCxnSpPr>
            <a:stCxn id="134" idx="3"/>
            <a:endCxn id="132" idx="1"/>
          </p:cNvCxnSpPr>
          <p:nvPr/>
        </p:nvCxnSpPr>
        <p:spPr>
          <a:xfrm flipH="1">
            <a:off x="1291680" y="3430080"/>
            <a:ext cx="6531480" cy="32760"/>
          </a:xfrm>
          <a:prstGeom prst="curvedConnector5">
            <a:avLst>
              <a:gd name="adj1" fmla="val -6515"/>
              <a:gd name="adj2" fmla="val 3744444"/>
              <a:gd name="adj3" fmla="val -6515"/>
            </a:avLst>
          </a:prstGeom>
          <a:ln w="28440">
            <a:solidFill>
              <a:srgbClr val="000000"/>
            </a:solidFill>
            <a:prstDash val="dash"/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s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 to define pag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tries to b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cce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 buttons have ALT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s are structured to be tab-navig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ML 4 has special attributes to control tab access sequences and key binding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ge Design and Lay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 FR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accessibility to visually impair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navig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s up functional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are, however, useful in applications, as they let you place different functional components in different fra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ge Design --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cal Programm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mited use of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Java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validation of in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up windows; multiple displa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 limited by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user ba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onsistent deployed script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er browsers presen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le designs/complex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task to perform before star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onstrained by technical 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d by user co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constrained by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quirements (defined by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is a Web Application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a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nterfac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back-end data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genera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rom back-end data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is on the first of thes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rich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programmatic content beneath (and controlled by) the p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Application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886040"/>
            <a:ext cx="86756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an Gra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utoronto.ca/ian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groveware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an.graham@utoronto.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Application Option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mple applica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 (e.g. search tool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ull-fledged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-featured (word processor, document management, etc.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iddle-level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interaction an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mple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a catalog,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 note, or message -- WebForum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rst-Generation Web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use, easy to implement </a:t>
            </a: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inimal set of Web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, specific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ll-Fledged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x Client-Server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flow, document management, collaboration; complex appl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blems/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customize/ada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unkiness of Web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build easy-to-use interfaces (Java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ddle-Tier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sk-specific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interfaces, with multiple pages, perhaps some scrip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-based administration,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only perform a limited set of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861840" y="4986360"/>
            <a:ext cx="7452000" cy="459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e will be looking at applications of thi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Process Question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r Pro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o are the use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ular, or infrequent users? Sophistica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sk Analysis for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re the require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into Web-style flowch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urity and Access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 requirements, prio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ation to Web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ry similar sets of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here is on largely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ynam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ent, with Web-base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tools are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ably Web-based, and integrated within the Web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more complex, function-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ce of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avig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clear design is the same in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7T02:45:35Z</dcterms:created>
  <dc:creator>Ian Graham</dc:creator>
  <dc:description/>
  <dc:language>en-US</dc:language>
  <cp:lastModifiedBy>Ian Graham</cp:lastModifiedBy>
  <cp:lastPrinted>1998-04-22T15:47:15Z</cp:lastPrinted>
  <dcterms:modified xsi:type="dcterms:W3CDTF">1998-04-23T00:24:49Z</dcterms:modified>
  <cp:revision>12</cp:revision>
  <dc:subject/>
  <dc:title>Web: Staying Up-To-Date </dc:title>
</cp:coreProperties>
</file>